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C82-D229-41A9-942C-C8C288FD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900-E9AF-480E-83DD-C62A0033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A12-0A02-4CC6-A522-BBA86B51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A69-7AF5-4F65-8E48-3453F7E2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3D0-C335-4EFA-9968-C1837641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359-79BB-4A94-9526-9F3B8B7C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2AA-5A6D-45DF-9342-5D700939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5F5-2668-4060-8839-7FFB796B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96A-6790-4494-8961-0045D1DA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DCF-E1FF-4AE5-98EF-FCE0A80E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45D-69F6-490B-AD28-4774E623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C7C-F64E-4837-976F-962D317A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59DD-36F2-477D-A532-3D763969C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whoosh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447920" y="380880"/>
            <a:ext cx="6257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2nd Industrial Revolu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304920" y="1447920"/>
            <a:ext cx="459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The Steel Indus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55640" y="2133720"/>
            <a:ext cx="81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The Bessemer Proces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ed for faster production of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59240" y="2514600"/>
            <a:ext cx="74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Great Lakes shipping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ught iron ore from Mid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838080" y="3124080"/>
            <a:ext cx="319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Andrew Carneg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380880" y="4038480"/>
            <a:ext cx="398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The Oil Indus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972360" y="468936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Edwin Drake drills for oil near Titusville,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1673640" y="525780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dcatters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 su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830880" y="594360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xas oil boom also begins at this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2" descr="C:\Program Files\Common Files\Microsoft Shared\Clipart\cagcat50\IN00483_.wmf"/>
          <p:cNvPicPr/>
          <p:nvPr/>
        </p:nvPicPr>
        <p:blipFill>
          <a:blip r:embed="rId1"/>
          <a:stretch/>
        </p:blipFill>
        <p:spPr>
          <a:xfrm>
            <a:off x="5715000" y="297180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609480" y="457200"/>
            <a:ext cx="4191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Transport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37240" y="1143000"/>
            <a:ext cx="51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ap steel leads RR to lay more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s longer than eve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90720" y="2133720"/>
            <a:ext cx="64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ranscontinental Railroa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670760" y="2895480"/>
            <a:ext cx="61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line from Omaha to the Pacif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215000" y="3352680"/>
            <a:ext cx="64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nk 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ajor Rail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er or Branch 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nnect outlying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596240" y="480060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George Westinghouse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air 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497320" y="4003560"/>
            <a:ext cx="32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gauge &amp;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C:\Program Files\Common Files\Microsoft Shared\Clipart\cagcat50\BD06288_.WMF"/>
          <p:cNvPicPr/>
          <p:nvPr/>
        </p:nvPicPr>
        <p:blipFill>
          <a:blip r:embed="rId1"/>
          <a:stretch/>
        </p:blipFill>
        <p:spPr>
          <a:xfrm>
            <a:off x="2743200" y="5257800"/>
            <a:ext cx="27432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609480" y="533520"/>
            <a:ext cx="47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Horseless Carria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366560" y="1219320"/>
            <a:ext cx="674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allows for better production of mo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mbustion engines attempted (gaso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a self propelled veh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00 wealthy Americans were using automob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838080" y="3124080"/>
            <a:ext cx="2352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Airplan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441800" y="3809880"/>
            <a:ext cx="44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ternal combus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gliders into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8"/>
          <p:cNvSpPr txBox="1"/>
          <p:nvPr/>
        </p:nvSpPr>
        <p:spPr>
          <a:xfrm>
            <a:off x="762120" y="4724280"/>
            <a:ext cx="4476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Orville &amp; Wilbur Wrigh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734840" y="5222880"/>
            <a:ext cx="433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flight: Kitty Hawk, 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ed 12 seconds, went 12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C:\Program Files\Common Files\Microsoft Shared\Clipart\cagcat50\TN00686_.wmf"/>
          <p:cNvPicPr/>
          <p:nvPr/>
        </p:nvPicPr>
        <p:blipFill>
          <a:blip r:embed="rId1"/>
          <a:stretch/>
        </p:blipFill>
        <p:spPr>
          <a:xfrm>
            <a:off x="6324480" y="3200400"/>
            <a:ext cx="1951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609480" y="457200"/>
            <a:ext cx="390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Communica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365840" y="1676520"/>
            <a:ext cx="61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Telegraph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 &amp; dash code using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6160" y="12952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uel F.B. M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5080" y="243828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exander Graham 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433520" y="2860560"/>
            <a:ext cx="17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ph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86880" y="365760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omas Alva Edison (Menlo Pa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656000" y="4232160"/>
            <a:ext cx="55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1,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Bulb, Phonograph, Use of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C:\Program Files\Common Files\Microsoft Shared\Clipart\cagcat50\BD06990_.WMF"/>
          <p:cNvPicPr/>
          <p:nvPr/>
        </p:nvPicPr>
        <p:blipFill>
          <a:blip r:embed="rId1"/>
          <a:stretch/>
        </p:blipFill>
        <p:spPr>
          <a:xfrm>
            <a:off x="5486400" y="457200"/>
            <a:ext cx="1447920" cy="1228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:\Program Files\Microsoft Office\Clipart\standard\stddir1\BD04922_.WMF"/>
          <p:cNvPicPr/>
          <p:nvPr/>
        </p:nvPicPr>
        <p:blipFill>
          <a:blip r:embed="rId2"/>
          <a:stretch/>
        </p:blipFill>
        <p:spPr>
          <a:xfrm>
            <a:off x="6629400" y="2286000"/>
            <a:ext cx="15476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1447920" y="380880"/>
            <a:ext cx="6257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Rise of Big Busin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04920" y="1447920"/>
            <a:ext cx="459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Capitalis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1137600" y="2209680"/>
            <a:ext cx="60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determines how much goods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how much workers are p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WordArt 14"/>
          <p:cNvSpPr txBox="1"/>
          <p:nvPr/>
        </p:nvSpPr>
        <p:spPr>
          <a:xfrm>
            <a:off x="914400" y="3200400"/>
            <a:ext cx="305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Horatio Alger Jr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746360" y="3657600"/>
            <a:ext cx="557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no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ck &amp; Pluck series  (rags to riches the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755640" y="4537080"/>
            <a:ext cx="73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issez-faire Capit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et the people choo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Go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nvolvement in economy (free enterpr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756360" y="563868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sm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owns everything, everyone i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0"/>
          <p:cNvSpPr txBox="1"/>
          <p:nvPr/>
        </p:nvSpPr>
        <p:spPr>
          <a:xfrm>
            <a:off x="533520" y="380880"/>
            <a:ext cx="32670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Andrew Carneg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135800" y="1066680"/>
            <a:ext cx="735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.S.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ical Integratio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 everything from start to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) mines, factories, shipping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2"/>
          <p:cNvSpPr txBox="1"/>
          <p:nvPr/>
        </p:nvSpPr>
        <p:spPr>
          <a:xfrm>
            <a:off x="668160" y="2514600"/>
            <a:ext cx="358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John D. Rockefelle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272240" y="3241800"/>
            <a:ext cx="78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Integratio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other compan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) own ALL the oil refin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14"/>
          <p:cNvSpPr txBox="1"/>
          <p:nvPr/>
        </p:nvSpPr>
        <p:spPr>
          <a:xfrm>
            <a:off x="380880" y="4648320"/>
            <a:ext cx="376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Cornelius Vanderbil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15"/>
          <p:cNvSpPr txBox="1"/>
          <p:nvPr/>
        </p:nvSpPr>
        <p:spPr>
          <a:xfrm>
            <a:off x="380880" y="5410080"/>
            <a:ext cx="39909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George Westinghous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George Pullma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WordArt 16"/>
          <p:cNvSpPr txBox="1"/>
          <p:nvPr/>
        </p:nvSpPr>
        <p:spPr>
          <a:xfrm>
            <a:off x="4876920" y="4800600"/>
            <a:ext cx="3943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ss Marke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295280" y="304920"/>
            <a:ext cx="620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Labor strives to organiz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037600" y="1031760"/>
            <a:ext cx="503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monopolies growing 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Steel, Standard Oil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taxes on im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80880" y="2362320"/>
            <a:ext cx="483876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Sherman Antitrust Ac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11040" y="2895480"/>
            <a:ext cx="67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utlawed monopolies &amp; trusts which restrained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id very little to change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457200" y="4114800"/>
            <a:ext cx="605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Poor working condit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21720" y="4800600"/>
            <a:ext cx="26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&amp;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685800" y="380880"/>
            <a:ext cx="3086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Knights of Lab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217520" y="838080"/>
            <a:ext cx="525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, working for the rights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r conditions, shorter days, more 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rrance V. Powd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y Harris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ther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685800" y="2514600"/>
            <a:ext cx="3648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The Great Upheava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439640" y="2971800"/>
            <a:ext cx="60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strikes take place throughout the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urn vio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aymarket Ri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anarchi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685800" y="4191120"/>
            <a:ext cx="545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American Federation of Lab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365840" y="4800600"/>
            <a:ext cx="51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ed workers separate from uns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muel Gom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685800" y="5791320"/>
            <a:ext cx="5467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Homestead &amp; Pullman Strik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2:27:51Z</dcterms:created>
  <dc:creator>nalbert</dc:creator>
  <dc:description/>
  <dc:language>en-US</dc:language>
  <cp:lastModifiedBy>PA Department of Education Classrooms for the Future</cp:lastModifiedBy>
  <dcterms:modified xsi:type="dcterms:W3CDTF">2013-01-24T16:37:25Z</dcterms:modified>
  <cp:revision>9</cp:revision>
  <dc:subject/>
  <dc:title>PowerPoint Presentation</dc:title>
</cp:coreProperties>
</file>